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DED-B0FC-4353-B97E-8C763C3A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FCA-C301-4A58-B115-F03CD988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894-7800-436F-BBD3-E7366F1F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F7D-8D0C-4E5E-AEB4-E5CE6ABA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666E-BEA0-4AC5-BE1C-40A5FC9C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21F3-A686-4F9C-A593-466AE03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913-D164-4D8F-AF2C-AFA0110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A1D-6642-4BC8-9E7D-D05763AF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E0EC-E592-4B3A-87C1-D737C8F0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D4DB-8472-4CED-8CAA-93B1098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675-5F9D-421B-A947-0A05047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E83-3824-4D7C-8FBD-BD483828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0D5-AC6F-49A6-BC3B-15220F70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11DB-E4D9-4F6C-BC4D-2444D064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FC14-F858-4A46-8D9A-31575C4F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B6AD-4508-44CE-B1A9-390B52E2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ED1F-CCEE-4404-9439-0ED2C322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625-8F6A-41E3-99B0-5B288A66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ADD-A2D6-4352-ACEC-8C3F0679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14F-E71D-445E-8B17-A21E92AC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701-AE7A-4A50-B535-B3BD9A5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7B0-5752-4D5A-BB99-38C0D51A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EBA-1E0C-49C3-852C-B82B7D89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B40-D8A4-46ED-BC6A-A550FD6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4DA2-D0D6-4386-8546-4B838937FCA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C280-1D06-44CB-9CF9-A105F5B8EEF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1" name="Управляющая кнопка: домой 6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72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6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8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79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84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56360" y="463680"/>
            <a:ext cx="1128600" cy="16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ЛУЖИН"/>
          <p:cNvPicPr/>
          <p:nvPr/>
        </p:nvPicPr>
        <p:blipFill>
          <a:blip r:embed="rId2"/>
          <a:stretch/>
        </p:blipFill>
        <p:spPr>
          <a:xfrm>
            <a:off x="298440" y="32868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3"/>
          <a:stretch/>
        </p:blipFill>
        <p:spPr>
          <a:xfrm>
            <a:off x="7620120" y="2206800"/>
            <a:ext cx="1341360" cy="334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4"/>
          <a:stretch/>
        </p:blipFill>
        <p:spPr>
          <a:xfrm>
            <a:off x="7643880" y="3998880"/>
            <a:ext cx="136044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5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857240" y="428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28000" y="1571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AutoShape 14"/>
          <p:cNvGrpSpPr/>
          <p:nvPr/>
        </p:nvGrpSpPr>
        <p:grpSpPr>
          <a:xfrm>
            <a:off x="414360" y="2822400"/>
            <a:ext cx="2103480" cy="609840"/>
            <a:chOff x="414360" y="2822400"/>
            <a:chExt cx="2103480" cy="609840"/>
          </a:xfrm>
        </p:grpSpPr>
        <p:pic>
          <p:nvPicPr>
            <p:cNvPr id="199" name="AutoShape 14" descr=""/>
            <p:cNvPicPr/>
            <p:nvPr/>
          </p:nvPicPr>
          <p:blipFill>
            <a:blip r:embed="rId6"/>
            <a:stretch/>
          </p:blipFill>
          <p:spPr>
            <a:xfrm>
              <a:off x="414360" y="2822400"/>
              <a:ext cx="2103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3800" y="288144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2" name="Прямая со стрелкой 26"/>
          <p:cNvCxnSpPr/>
          <p:nvPr/>
        </p:nvCxnSpPr>
        <p:spPr>
          <a:xfrm flipH="1" flipV="1">
            <a:off x="1958760" y="1485720"/>
            <a:ext cx="1821600" cy="157392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3" name="Прямая со стрелкой 27"/>
          <p:cNvCxnSpPr/>
          <p:nvPr/>
        </p:nvCxnSpPr>
        <p:spPr>
          <a:xfrm flipV="1">
            <a:off x="5697000" y="1285560"/>
            <a:ext cx="1018440" cy="17740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4" name="Прямая со стрелкой 30"/>
          <p:cNvCxnSpPr>
            <a:endCxn id="199" idx="3"/>
          </p:cNvCxnSpPr>
          <p:nvPr/>
        </p:nvCxnSpPr>
        <p:spPr>
          <a:xfrm flipH="1">
            <a:off x="2444040" y="3059280"/>
            <a:ext cx="1335960" cy="496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5" name="Прямая со стрелкой 33"/>
          <p:cNvCxnSpPr/>
          <p:nvPr/>
        </p:nvCxnSpPr>
        <p:spPr>
          <a:xfrm flipH="1">
            <a:off x="2112120" y="3058200"/>
            <a:ext cx="1667880" cy="209736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6" name="Прямая со стрелкой 36"/>
          <p:cNvCxnSpPr/>
          <p:nvPr/>
        </p:nvCxnSpPr>
        <p:spPr>
          <a:xfrm flipV="1">
            <a:off x="5697000" y="3039480"/>
            <a:ext cx="1947240" cy="19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7" name="Прямая со стрелкой 39"/>
          <p:cNvCxnSpPr/>
          <p:nvPr/>
        </p:nvCxnSpPr>
        <p:spPr>
          <a:xfrm>
            <a:off x="5697000" y="3059280"/>
            <a:ext cx="1971000" cy="1954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8" name="Прямая со стрелкой 43"/>
          <p:cNvCxnSpPr/>
          <p:nvPr/>
        </p:nvCxnSpPr>
        <p:spPr>
          <a:xfrm>
            <a:off x="1928520" y="850680"/>
            <a:ext cx="4250520" cy="1332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Прямая со стрелкой 45"/>
          <p:cNvCxnSpPr>
            <a:stCxn id="199" idx="3"/>
          </p:cNvCxnSpPr>
          <p:nvPr/>
        </p:nvCxnSpPr>
        <p:spPr>
          <a:xfrm flipV="1">
            <a:off x="2444760" y="3039480"/>
            <a:ext cx="5199840" cy="6876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Прямая со стрелкой 48"/>
          <p:cNvCxnSpPr/>
          <p:nvPr/>
        </p:nvCxnSpPr>
        <p:spPr>
          <a:xfrm flipV="1">
            <a:off x="2143080" y="5012640"/>
            <a:ext cx="5525280" cy="5940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11" name="Picture 4" descr="расскольников"/>
          <p:cNvPicPr/>
          <p:nvPr/>
        </p:nvPicPr>
        <p:blipFill>
          <a:blip r:embed="rId7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grpSp>
        <p:nvGrpSpPr>
          <p:cNvPr id="212" name="Управляющая кнопка: далее 54"/>
          <p:cNvGrpSpPr/>
          <p:nvPr/>
        </p:nvGrpSpPr>
        <p:grpSpPr>
          <a:xfrm>
            <a:off x="4438800" y="5748480"/>
            <a:ext cx="687240" cy="652320"/>
            <a:chOff x="4438800" y="5748480"/>
            <a:chExt cx="687240" cy="652320"/>
          </a:xfrm>
        </p:grpSpPr>
        <p:pic>
          <p:nvPicPr>
            <p:cNvPr id="213" name="Управляющая кнопка: далее 54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38800" y="5748480"/>
              <a:ext cx="687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00720" y="5786280"/>
              <a:ext cx="571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41680" y="3786120"/>
            <a:ext cx="1963800" cy="546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УЖИН"/>
          <p:cNvPicPr/>
          <p:nvPr/>
        </p:nvPicPr>
        <p:blipFill>
          <a:blip r:embed="rId2"/>
          <a:stretch/>
        </p:blipFill>
        <p:spPr>
          <a:xfrm>
            <a:off x="225360" y="385272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6278400" y="3492360"/>
            <a:ext cx="2713320" cy="46944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2143080" y="264312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4643280" y="2428920"/>
            <a:ext cx="1657440" cy="936720"/>
          </a:xfrm>
          <a:prstGeom prst="wedgeRoundRectCallout">
            <a:avLst>
              <a:gd name="adj1" fmla="val -49384"/>
              <a:gd name="adj2" fmla="val 90601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68600" y="3565440"/>
            <a:ext cx="1968480" cy="547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778800" y="3786120"/>
            <a:ext cx="1828800" cy="45594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928880" y="1428840"/>
            <a:ext cx="2232000" cy="1224000"/>
          </a:xfrm>
          <a:prstGeom prst="wedgeRoundRectCallout">
            <a:avLst>
              <a:gd name="adj1" fmla="val 24851"/>
              <a:gd name="adj2" fmla="val 12629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86200" y="2143080"/>
            <a:ext cx="1871640" cy="1008000"/>
          </a:xfrm>
          <a:prstGeom prst="wedgeRoundRectCallout">
            <a:avLst>
              <a:gd name="adj1" fmla="val -61875"/>
              <a:gd name="adj2" fmla="val 86106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500880" y="1214280"/>
            <a:ext cx="2016000" cy="107964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AutoShape 20"/>
          <p:cNvGrpSpPr/>
          <p:nvPr/>
        </p:nvGrpSpPr>
        <p:grpSpPr>
          <a:xfrm>
            <a:off x="487440" y="5894280"/>
            <a:ext cx="2097000" cy="609840"/>
            <a:chOff x="487440" y="5894280"/>
            <a:chExt cx="2097000" cy="609840"/>
          </a:xfrm>
        </p:grpSpPr>
        <p:pic>
          <p:nvPicPr>
            <p:cNvPr id="231" name="AutoShape 20" descr=""/>
            <p:cNvPicPr/>
            <p:nvPr/>
          </p:nvPicPr>
          <p:blipFill>
            <a:blip r:embed="rId3"/>
            <a:stretch/>
          </p:blipFill>
          <p:spPr>
            <a:xfrm>
              <a:off x="487440" y="5894280"/>
              <a:ext cx="20970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5440" y="5952960"/>
              <a:ext cx="189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СВИДРИГАЙЛОВ"/>
          <p:cNvPicPr/>
          <p:nvPr/>
        </p:nvPicPr>
        <p:blipFill>
          <a:blip r:embed="rId1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ОНЯ"/>
          <p:cNvPicPr/>
          <p:nvPr/>
        </p:nvPicPr>
        <p:blipFill>
          <a:blip r:embed="rId2"/>
          <a:stretch/>
        </p:blipFill>
        <p:spPr>
          <a:xfrm>
            <a:off x="7497720" y="4071960"/>
            <a:ext cx="1365120" cy="406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42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8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9933ff"/>
          </a:solidFill>
          <a:ln w="3816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ротест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ун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71680" y="2500200"/>
            <a:ext cx="2232000" cy="129564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Единично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о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Вселенски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масштабы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AutoShape 15"/>
          <p:cNvSpPr/>
          <p:nvPr/>
        </p:nvSpPr>
        <p:spPr>
          <a:xfrm>
            <a:off x="642960" y="4143240"/>
            <a:ext cx="2448000" cy="1368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Арифметика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6286680" y="4214880"/>
            <a:ext cx="2304720" cy="1224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еория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олкающая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66" name="Прямая со стрелкой 18"/>
          <p:cNvCxnSpPr>
            <a:stCxn id="260" idx="3"/>
            <a:endCxn id="261" idx="1"/>
          </p:cNvCxnSpPr>
          <p:nvPr/>
        </p:nvCxnSpPr>
        <p:spPr>
          <a:xfrm flipV="1">
            <a:off x="2555640" y="1483920"/>
            <a:ext cx="3601080" cy="21816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7" name="Прямая со стрелкой 19"/>
          <p:cNvCxnSpPr/>
          <p:nvPr/>
        </p:nvCxnSpPr>
        <p:spPr>
          <a:xfrm flipV="1">
            <a:off x="2785680" y="2928600"/>
            <a:ext cx="3601080" cy="21672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8" name="Прямая со стрелкой 20"/>
          <p:cNvCxnSpPr>
            <a:endCxn id="265" idx="1"/>
          </p:cNvCxnSpPr>
          <p:nvPr/>
        </p:nvCxnSpPr>
        <p:spPr>
          <a:xfrm flipV="1">
            <a:off x="3143160" y="4827600"/>
            <a:ext cx="3144240" cy="3060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70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67320" y="444600"/>
            <a:ext cx="13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ЛУЖ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6640" y="262080"/>
            <a:ext cx="210996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расскольников"/>
          <p:cNvPicPr/>
          <p:nvPr/>
        </p:nvPicPr>
        <p:blipFill>
          <a:blip r:embed="rId5"/>
          <a:stretch/>
        </p:blipFill>
        <p:spPr>
          <a:xfrm>
            <a:off x="3657600" y="1633680"/>
            <a:ext cx="2103480" cy="290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ПОРФЕРИЙ ПЕТРОВИЧ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65840" y="1407960"/>
            <a:ext cx="1749600" cy="200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СОНЯ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3780000"/>
            <a:ext cx="1963800" cy="240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СВИДРИГАЙЛОВ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90640" y="3760920"/>
            <a:ext cx="2260440" cy="270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8920" y="500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715080" y="500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14384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7" name="AutoShape 20"/>
          <p:cNvGrpSpPr/>
          <p:nvPr/>
        </p:nvGrpSpPr>
        <p:grpSpPr>
          <a:xfrm>
            <a:off x="480960" y="2962440"/>
            <a:ext cx="2060640" cy="609480"/>
            <a:chOff x="480960" y="2962440"/>
            <a:chExt cx="2060640" cy="609480"/>
          </a:xfrm>
        </p:grpSpPr>
        <p:pic>
          <p:nvPicPr>
            <p:cNvPr id="128" name="AutoShap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0960" y="2962440"/>
              <a:ext cx="2060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63400" y="302112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0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71840" y="6000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4642560" y="285840"/>
            <a:ext cx="71640" cy="6286320"/>
          </a:xfrm>
          <a:prstGeom prst="line">
            <a:avLst/>
          </a:prstGeom>
          <a:ln w="7632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9" descr="ЛУЖИН"/>
          <p:cNvPicPr/>
          <p:nvPr/>
        </p:nvPicPr>
        <p:blipFill>
          <a:blip r:embed="rId1"/>
          <a:stretch/>
        </p:blipFill>
        <p:spPr>
          <a:xfrm>
            <a:off x="6907320" y="493560"/>
            <a:ext cx="16826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37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43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48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49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3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54" name="Управляющая кнопка: домой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8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4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65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1-07-03T11:00:39Z</dcterms:modified>
  <cp:revision>40</cp:revision>
  <dc:subject/>
  <dc:title>     </dc:title>
</cp:coreProperties>
</file>